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3B7B-6F55-48E8-924C-360AD591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F1A2-8115-402C-BD3C-3293F81D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5362-1EBB-4BFC-8C9D-BF82135A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430E-A3CF-4EBE-A996-5EB10962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B1A2-819B-4C42-AC95-51D62ECE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A6F1-E534-42AD-885B-F37A3661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5178-3618-4C69-978C-900B341E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23C2-D8F3-4CCF-8701-F6AE8C90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792A-CD84-4148-81A9-D795CB04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ADDF-0765-4221-A80F-E36D623C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4813-45A2-4879-B7FF-BF5C1272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A890-C024-465B-B7F0-782E3DF4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E35F-17FA-4DDD-9685-F75FA866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A55D-6A1A-4308-BF80-F9D159FB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CE83-7A84-419F-A2F6-C4EF43A5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AEB0-79D3-476D-9466-D20853AA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83BC-F57B-40DE-B98F-75FDADB3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DE451-AC7C-477C-A826-BA477942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0E809-F2E0-4FB4-B624-6FC8339B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1173F-3C64-4C87-B70A-D44C21CE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21CB9-3271-451D-BE6B-2B6912B0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2FB98-B071-403D-82F9-295510A0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12D1-9080-4DF7-981C-021892BA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5BB96-7176-4425-8387-5256B733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C35E3-1446-4ADC-BF43-F396F9EB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9944F-AE21-4D92-AEEA-FB9D312D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7680C-4F0E-46C6-B15F-A746F2FA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D6FE5-7E75-4D91-B571-BCA079D0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FD4C3-772A-408C-9878-37A17C58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8DEA5-DBF6-4ADB-938F-973E5843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01B8F-6F10-49A1-86F9-1B4CA426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7B46B-7E46-46D6-B33E-238578A0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E4B43-BE2F-4716-8B0B-38BD6EAA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359A-7A6E-4587-8CE6-9F4AEE2A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18C54-5E28-4AB2-A631-1961E70C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C1E97-057C-4F6B-B453-B2E30426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6682A-5866-4EDC-9997-FEB5073D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8BAFF-05F4-46E4-9992-258CCA38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585F7-614C-4DEB-9343-EDD8A1BF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1598F-4776-4AD1-B938-02B7E3E9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D4492-4C14-4783-BE46-39A1DB9F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681EB-61DC-4449-9177-C6BC1F64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71969-49DD-4013-BA79-448C47C1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DB60-9972-41CA-B2E3-D3E9183B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8B2B-C03D-4046-8240-AA056016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9D1D-2368-4296-9346-8990EB2A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B778-E196-4F37-8E8D-AB934F65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BA96-1272-41D6-95A6-01A8CE16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CA88-9C07-4F37-8D6C-EDC81F08AA8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81C9-61D6-49EC-8E6B-26B93474967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124C-7B36-4850-9987-7C0A52DDCC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F410-B74B-4B3C-80D7-4597F9ED08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4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5,9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8,6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09,4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42,55 млн.руб. (местный бюджет – 134,59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7,96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3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- 9,4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0,86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2,0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4,3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ДЕЯТЕЛЬНОСТИ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 (по состоянию на 01.10.201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8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646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5,91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1,6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09,4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1-01T04:56:16Z</dcterms:modified>
  <cp:revision>83</cp:revision>
  <dc:subject/>
  <dc:title>Структура собственных доходов на 2016 год бюджета Дальнереченского городского округа</dc:title>
</cp:coreProperties>
</file>