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035-43EA-4BCE-86CB-6E24CACB2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D09-4683-469D-ADD8-4B9CD8DA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BDE-DD26-4195-A205-9EA28C2B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F7F-9778-439B-B1D3-238F5A1C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E784-249C-44B0-A789-91EB5F53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5760-AB06-4BC1-8FA0-16EDFA3D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CF4D-7986-4011-9DCD-AFB4E3BA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0992-8CC9-4EDD-94A9-28785540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5619-047A-4088-8958-82401371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1DA4-5ED1-4E64-B99D-DB520D9F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C3AC-49E3-4F8F-AD89-9F072C5E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A9F7-A26D-4D66-9EEE-C31BF939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DFE7-A851-4DFF-9959-B60C0DB5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29D3-6B73-4740-916B-9FC1EB1F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2BAF-91F5-4626-A0ED-C77DD9A1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8CDE-5474-4B16-ACE7-315B24E7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1B56-91AA-47CA-AF43-1EF590CD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5F88F-B0D2-4A0F-BD56-C5AE469F5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1F22-779E-4D62-9953-6247769D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58AE-3242-4776-9311-7B3D06E2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2DC36-9091-46DB-9AF7-940D2552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FBCF1-2D73-4C6B-B977-9924B3F8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DA0-D537-4AAA-872B-9DD598DE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57AAE-177E-4030-9CE4-AB012985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3359-7A3C-42A2-A681-D4E6780B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42F9D-3978-4F1F-9C06-ED3DE046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3BE8-B8FE-46F9-9FA2-29E63F4E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42A9-A9AB-4D7C-99E8-27C641A2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814D-279E-41CC-9263-37BE7D2B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48C8-01ED-4EC2-8389-7FEE21B8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76026-2B39-4DB1-9294-81888A18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40C11-4E93-4709-BDA9-10FA1D5C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F37C4-4672-47B8-A6B2-0E96BE74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7525-8DC6-4544-8B2D-8BF689459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37D3A-E39F-449D-ACAE-59A4A1C5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EBEA6-32D1-4E47-AD52-535FFAEE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E4CF-0B8F-4E31-B00B-BFA1B9B8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1CF9A-38E3-4702-8E80-EE63A2D5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64C8-7ECC-483B-B0FB-829B2870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582BC-8AB5-49A7-B377-2DB54093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BED69-DD51-419F-9144-1C19FB11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8BC2F-B367-4F9A-96BE-CFF14F76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344CC-3E9A-4CBF-B69C-4F0E4748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592-3317-4BB5-9641-2B5C5697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3CE-AC16-4B42-A02B-7190F2A7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2FE8-2C3C-418E-9C4B-8FA1AA9E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479-CD0D-45E8-A122-8A8045A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5ED-F098-483F-9FA8-504C9522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0F9B-8DE3-4AF2-A566-087CE99A083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45A5-1E0F-41C6-ACC1-0EC4DA7A93A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BEAC-24B7-42DD-BD3A-C41DBDA709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14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14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14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2885-00E0-4287-A2FE-8240F8F4B8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7 ГОД И ПЛАНОВЫЙ ПЕРИОД 2018-2019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6.12.2016 № № 88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7 год и плановый период 2018-2019 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01640" y="990720"/>
          <a:ext cx="7777080" cy="54752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3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6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4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3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2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7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2,8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7 год – 335,65 млн.руб. (местный бюджет – 126,93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08,72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52,0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7 год – 8,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9,0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98920" y="843480"/>
            <a:ext cx="760716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- 6,87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7 год – 1,2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49200" y="1879560"/>
          <a:ext cx="731844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1879560"/>
                    <a:ext cx="731844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959040" y="319320"/>
            <a:ext cx="7638120" cy="7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РАСХОДЫ НА НЕПРОГРАММНЫЕ НАПРАВЛЕНИЯ </a:t>
            </a:r>
            <a:br>
              <a:rPr sz="1600"/>
            </a:br>
            <a:r>
              <a:rPr b="1" lang="en-US" sz="1600" spc="-1" strike="noStrike">
                <a:solidFill>
                  <a:srgbClr val="06072e"/>
                </a:solidFill>
                <a:latin typeface="Times New Roman"/>
              </a:rPr>
              <a:t>ДЕЯТЕЛЬНОСТИ В 2017 ГОДУ</a:t>
            </a:r>
            <a:r>
              <a:rPr b="0" lang="en-US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878040" y="1409760"/>
          <a:ext cx="759132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1409760"/>
                    <a:ext cx="75913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(млн.руб.)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2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0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5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7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41440" y="990720"/>
          <a:ext cx="8151840" cy="566244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351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9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7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8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6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14360" y="990720"/>
          <a:ext cx="8567640" cy="57531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8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6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3480" y="277920"/>
            <a:ext cx="7518240" cy="9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СТРУКТУРА ДОХОДОВ БЮДЖЕТА ДАЛЬНЕРЕЧЕНСКОГО ГОРОДСКОГО ОКРУГА НА 2017 ГОД (49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9,33</a:t>
            </a:r>
            <a:r>
              <a:rPr b="1" lang="en-US" sz="19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СТРУКТУРА СОБСТВЕННЫХ (НАЛОГОВЫХ И НЕНАЛОГОВЫХ) ДОХОДОВ В 2017 ГОДУ (2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83</a:t>
            </a:r>
            <a:r>
              <a:rPr b="1" lang="ru-RU" sz="1900" spc="-1" strike="noStrike">
                <a:solidFill>
                  <a:srgbClr val="330033"/>
                </a:solidFill>
                <a:latin typeface="Times New Roman"/>
              </a:rPr>
              <a:t>,21 млн.руб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2520" y="1685880"/>
          <a:ext cx="8118360" cy="47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1685880"/>
                    <a:ext cx="811836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0033"/>
                </a:solidFill>
                <a:latin typeface="Times New Roman"/>
              </a:rPr>
              <a:t>СРАВНЕНИЕ ОБЪЕМОВ МЕЖБЮДЖЕТНЫХ ТРАНСФЕРТОВ 2016 И 2017-2019 ГОДОВ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5240160" y="1141560"/>
          <a:ext cx="3470400" cy="51768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33"/>
                    </a:solidFill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1320" y="277560"/>
            <a:ext cx="75200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7 ГОДУ (21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,32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30000" y="270000"/>
            <a:ext cx="81025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8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6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г к 2016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6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9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7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360" y="277920"/>
            <a:ext cx="77310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7 ГОД (5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2,8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57280" y="1278000"/>
          <a:ext cx="8200800" cy="52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278000"/>
                    <a:ext cx="820080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01-26T07:57:55Z</dcterms:modified>
  <cp:revision>114</cp:revision>
  <dc:subject/>
  <dc:title>Структура собственных доходов на 2016 год бюджета Дальнереченского городского округа</dc:title>
</cp:coreProperties>
</file>