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2EC-62B1-487B-ABBD-905672B7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ADB-3894-4714-ABF5-F83820C5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D4A-E2AE-46D8-AEA4-8C697D9D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24B-A69B-432A-8317-3D0563C5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C736-97F4-424E-A217-10E348D5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F693-C515-467F-A314-8F371C9C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EE14-F86B-4C37-9072-C67A122A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202F-D1A9-453F-80FC-684548AA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92039-66BF-4107-AC9C-0A48DA69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18C2-B225-4C42-9D4A-FA0CFEB1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35FB-434B-4B48-97F7-D52B7A34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49D-682E-4925-950B-B4F758BC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3785-989A-49F5-9007-0F3F64B8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1314-A0B3-498D-A539-9862B03C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B897-F6B9-43BB-AFE7-62D5EE20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F46D-9751-4665-AEBA-E42F7677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2749-A379-4FA8-ADB8-183851B3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D58E-D28C-4EDD-9CDA-192BAD01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D6A8-0D31-4B5D-A730-EC17EA4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D0D-9F58-4AAC-8262-1EEE95E2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0EDF-EBEF-498B-A0C0-B361249C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C1D5-90FA-49EC-8BBB-C3A8497B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E6F-61BA-40F0-8851-CBF3D0F0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E84-C701-4C86-AEBF-C21B9ED8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9C4D-5DC6-4E2D-8097-0AE6CAA4BC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A696-ADC5-4BEE-9601-A5001CE6F9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332000" y="1638360"/>
          <a:ext cx="4214880" cy="488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38360"/>
                    <a:ext cx="4214880" cy="48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342720"/>
            <a:ext cx="7488360" cy="1150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7 ГОД И ПЛАНОВЫЙ ПЕРИОД 2018-2019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6-12-23T00:21:30Z</dcterms:modified>
  <cp:revision>39</cp:revision>
  <dc:subject/>
  <dc:title>Структура собственных доходов на 2016 год бюджета Дальнереченского городского округа</dc:title>
</cp:coreProperties>
</file>