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80CA-CC5D-44A6-8877-4911ACE50E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B4F9-D958-42C2-8465-93E560F6F68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4480-76C5-4092-B735-F5F5058BC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EF1D-3D33-438E-B246-8C5DFF7C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2BAC-5E21-4A62-A05C-5ACFE2BF7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E68B-C597-4B73-B947-D9739B556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D4BA-D9A6-4BD1-A87A-A100AE99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3D54-9D4A-4023-BD68-8437DE6F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3D1A-4E64-474A-A75F-7B18F852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B202-8951-47B7-97D3-12D09F3A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8622-6EC5-4914-9631-C851F5D7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F84F-FCD5-4C6B-B6EF-5A425E3A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0CAA-3C7E-4634-8F8D-6F69E427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8765-66A1-4A62-8370-989603A2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8253-107C-41A0-869C-C8D7003B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1D33-3EBF-4BEB-BFEC-606C46BE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DABD-E91F-4FDA-8FCB-4DBE404E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CD5C-2B11-415B-91CF-D95C0203C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0CDB-4970-46A9-8C97-2A8226E9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32A34-22F8-47F1-B0B3-2C881DA1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F99BC-CC07-4F9A-8141-CDAD36D0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C3567-CBE1-4521-B1A1-74CD98E1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DB47A-9077-499D-A604-08E97CCB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1B3C9-1559-4F9D-B030-B0FF4750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04B4-ADB6-4A24-BD3B-BB435F14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ED4F1-7D2A-4B5C-8054-31CE74BF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1B820-49ED-4853-90FD-061BC9E8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4F8A8-7890-4B68-BD0C-6052794C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4BD92-9B12-47FE-98E8-CEE93CDF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2E4D5-FF58-4383-9A20-75DB52B5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BCF9D-2C04-46B9-951C-7A993AFE7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2D6D6-2CA9-44F1-8141-77F959C1A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DA6B2-B5B3-4771-BA0A-7D59C3A7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9BDCB-3CA8-418F-9E54-746F0B10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92CD2-EC41-4321-B75A-4F1F864A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6A37-9791-4E3F-9620-EEE882CE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8DC6B-8CA4-4F3E-BA6D-4FAD6786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3DA7D-DB55-4179-926C-C77C4DA1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F8403-7008-491D-95DB-A990FFF8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52E74-D1E2-4230-93E2-430FA6D3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46A83-271C-4C9D-98DA-C3A19376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9080F-7118-4F47-99CA-F1FEB39B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51D4F-B628-45C4-ACEC-32057027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7AD9C-91DB-4F25-823E-D91B00F2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3E9D0-62E5-42DF-A06C-A940A4581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DF206-6797-420A-B85A-E0FCBF4B0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F761-9180-4B47-B081-BFED7966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27B78-2A50-4262-8B27-572081A9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371C9-6996-49C2-948C-61212EA2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F446D-D98B-4AAF-97CB-A15A8DAC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4C4D3-8279-4C56-9A30-8D68998E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8D4D7-F522-4766-AFED-FEBED667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117E2-9EC8-41B6-A423-F060C29E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3F745-7DF9-4496-A64F-B286E3A2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257BB-E8B6-4972-A665-7B5F018A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12B77-F24C-444A-BEB2-7B90BEF2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2BC3D-96F3-496C-9455-F57923D8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FE01-8FA0-4168-9A4B-B8735B47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AD15B-0FC5-4221-ADCD-376C664A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4D7B0-4001-45A3-B2D5-C11FC5F4D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24CA1-7EE7-4BB8-A655-4DF1AD3F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096B8-D836-4445-9CFD-B5F70A92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00431-C9EF-40C0-99CD-11A15CA6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A06A8-B3AB-4BD3-9D88-5D2839C4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FF36E-BFB3-4E27-9CEB-A7377F43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E8A7F-D9DD-42A4-93D6-3D110918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AA6DD-13FD-4F23-8DF9-5B429C22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D9ECA-5D78-4FFE-9EEB-30A9E9E3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72F9-63A0-41EA-905B-243F2E2B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38A33-5AA7-4288-87A6-D39FE4FE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DFF74-F2E0-405D-93B4-ED02B283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7E455-A8E6-43B4-A624-68B6D887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DEE1-B9C0-438E-BB5B-62490650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1C0A-630A-4BDE-BCDB-C7FC3252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0FE9-8003-4EB2-81ED-51033644B06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071D-960B-4EE2-A146-BD15CBFF791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FA7A-5544-41EE-8617-3B6ED8EC3A8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629D-9BA5-4820-ADE8-49035510CED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D1D2-9D11-4BE1-ADD4-70F0AB9710B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3480"/>
              <a:chOff x="637560" y="534600"/>
              <a:chExt cx="8109000" cy="30348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90EE-A702-4E3A-8D56-B9D1869E369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7777080" cy="533376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502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7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7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6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2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0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78320" y="562320"/>
            <a:ext cx="7866720" cy="105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757,69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5" name="Object 4"/>
          <p:cNvGraphicFramePr/>
          <p:nvPr/>
        </p:nvGraphicFramePr>
        <p:xfrm>
          <a:off x="1130400" y="2133720"/>
          <a:ext cx="708660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2133720"/>
                    <a:ext cx="70866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19 год – 465,39 млн.руб. (местный бюджет – 153,62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311,7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8" name="Object 4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67,6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1" name="Object 4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 на 2019 год - 8,23 млн.руб.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на 2019 год – 3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4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22,57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7" name="Object 3" descr=""/>
          <p:cNvPicPr/>
          <p:nvPr/>
        </p:nvPicPr>
        <p:blipFill>
          <a:blip r:embed="rId1"/>
          <a:stretch/>
        </p:blipFill>
        <p:spPr>
          <a:xfrm>
            <a:off x="1068480" y="2209680"/>
            <a:ext cx="7284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1,99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32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41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35" name="Object 3" descr=""/>
          <p:cNvPicPr/>
          <p:nvPr/>
        </p:nvPicPr>
        <p:blipFill>
          <a:blip r:embed="rId1"/>
          <a:stretch/>
        </p:blipFill>
        <p:spPr>
          <a:xfrm>
            <a:off x="1284120" y="1981080"/>
            <a:ext cx="71326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ОТДЕЛЬНЫЕ НЕПРОГРАММНЫЕ НАПРАВЛЕНИЯ ДЕЯТЕЛЬНОСТИ ИЗ МЕСТНОГО БЮДЖЕ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2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495612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741,3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Object 4"/>
          <p:cNvGraphicFramePr/>
          <p:nvPr/>
        </p:nvGraphicFramePr>
        <p:xfrm>
          <a:off x="1130400" y="1231920"/>
          <a:ext cx="7022880" cy="50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1231920"/>
                    <a:ext cx="702288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Object 4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98320" y="310680"/>
            <a:ext cx="8109360" cy="567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3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632720" cy="100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9 ГОД (757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59Z</dcterms:modified>
  <cp:revision>177</cp:revision>
  <dc:subject/>
  <dc:title>Структура собственных доходов на 2016 год бюджета Дальнереченского городского округа</dc:title>
</cp:coreProperties>
</file>