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89165-6B7F-4218-86E2-585C6D71FA5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B5552-FF4F-4AD8-944A-4707C1CE8F68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C12D-8316-41CD-8AD4-45B892BE4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9BC4-A3CD-47AD-98AE-1284F6989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F443-8B5E-44E6-AA8C-B3BF5D965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D12F-7FF1-431E-AF24-679B134AC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1A5F0-B954-48C9-B0F8-B029F626E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86962-C522-496B-B1FD-95BC54CE2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634AC-8569-4465-9641-B0F487C6C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27DA5-10DE-4644-B3F4-033EA8484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B93B8-9E6A-4345-94B4-548791F97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98C6C-AF67-4545-A30A-C1815FFA0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7B468-E443-44D3-8FB2-AC431AF7E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297C-4CFC-42DA-8A69-ABE7E7FCA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CDEA1-22F3-4339-81A8-08237602D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D767F-18FA-4F6A-83E1-D4B5D27E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52672-C62B-43CB-8AFF-D47684ED0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2D8AD-C300-4B70-B32D-122014C6A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F8E18-305B-405F-BF40-B435B6C49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A3F1A-81F9-48B4-89B4-0770B1024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730D5-E83C-4D22-8E8E-10C68A16E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FE189-3621-4C6A-BD66-A212CF382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B7528-B8A9-45E7-98C3-33C8E39D4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0BD25-AA09-4C07-93F4-2501DBF10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9362-892D-4B8A-9190-D3A9DC967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52291-7DD6-4944-9325-6152556F7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2DB4C-CE44-402A-B551-BCC787774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A486D-1AFE-4CE1-83C6-BF8BEBD4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DB837-CDF9-4428-B1C3-D866AA10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9E581-7605-41E0-A7CF-1C0D60BE2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18FEC-712E-4F1D-9470-97142E7FA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836BF-1CC8-4392-8775-C2F6175C4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FBE20-6A3F-4135-8C2E-0397D63DC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C5104-257D-4928-BE88-FC08E93FB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5E0E8-ACBF-4CAD-A976-47C7DC26B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6E93-FF20-404A-8A18-19BFC3927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C8F15-AF74-45A6-89A9-507FDB2C0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14993-8FB0-4E1F-92AE-C371BC468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E79D5-3B41-4930-A0D2-5C6DF5056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E4880-10F2-4A0A-B83B-2A64CC75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DA63E-D0DA-455B-9276-9C7DA320F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2EE18-BE5E-4419-873A-9D4DDC5E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EBC637-6DCD-4FD7-830F-FAE738C28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FAC9F-0EBD-4B00-B126-7216E578E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05F57-37A4-479D-B07E-B14A24B12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38AF2-66EC-4784-8BF2-8F316A5A7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956B-E80C-4680-91D0-FD9B9F583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7F6997-2C9D-4962-9349-F110E27DA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B4024-D545-43A0-B7D3-A233E28A4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73A565-92C8-45C7-B521-7EB36107D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002D96-C7FE-453C-9345-526FC47E5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A3AE8-7CE6-4C85-96E2-9E25D5825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A39F9F-F59A-4DD9-976B-8824C1D7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1DCE20-CA2A-4539-8AF8-189E8B638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141D3-8350-49AB-ACCA-13E24AE8D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8296C0-069A-4A49-96E1-0CA621507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FF4D6D-B4F5-444C-841E-F664F92A3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8079-1A02-46FC-A098-6DF0497B8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B8A578-C7BA-4C8D-8428-44E8E1C5B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6A27-1AE0-4872-AFD9-E1441D3DC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52F8-5C6F-42FF-8340-7C6B2614F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382A-0A2D-4C24-A504-1E23F173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05424-2C74-4806-A918-8E2BEFF22A53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D735F-341C-43F0-AA3A-00C8B8E485E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5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6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97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8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15165-874F-4384-A1EF-3C2932CF8659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4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14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14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69546-2D85-4A61-B7A4-C157388A8C89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9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2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C6FEC-E0FF-463F-9034-EA55A6853A8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9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И 20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-202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Object 4" descr=""/>
          <p:cNvPicPr/>
          <p:nvPr/>
        </p:nvPicPr>
        <p:blipFill>
          <a:blip r:embed="rId1"/>
          <a:stretch/>
        </p:blipFill>
        <p:spPr>
          <a:xfrm>
            <a:off x="325440" y="1138320"/>
            <a:ext cx="4686120" cy="573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3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578160" y="36720"/>
            <a:ext cx="8119440" cy="507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414360" y="581040"/>
          <a:ext cx="8567640" cy="670860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 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0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по обеспечению жильем молодых семе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бюджетам на реализацию программ формирования современной городской среды</a:t>
                      </a: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строительство детского сада, ремонт зданий и благо-устройство территорий детских садов, капитальный ремонт школ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 бюджетам на реализацию мероприятий и на поддержку государственных программ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9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3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8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детских сада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образования в школа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социальную поддержку детей-сирот и лиц, принявших на воспитание детей-сирот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детей-сирот жилыми помещения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1254240" y="331920"/>
            <a:ext cx="7412760" cy="7484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006666"/>
                </a:solidFill>
                <a:latin typeface="Arial"/>
              </a:rPr>
              <a:t>СТРУКТУРА СУБВЕНЦИЙ НА ВЫПОЛНЕНИЕ ПЕРЕДАВАЕМЫХ ПОЛНОМОЧИЙ В 20</a:t>
            </a:r>
            <a:r>
              <a:rPr b="1" lang="en-US" sz="1700" spc="-1" strike="noStrike">
                <a:solidFill>
                  <a:srgbClr val="006666"/>
                </a:solidFill>
                <a:latin typeface="Arial"/>
              </a:rPr>
              <a:t>20</a:t>
            </a:r>
            <a:r>
              <a:rPr b="1" lang="ru-RU" sz="1700" spc="-1" strike="noStrike">
                <a:solidFill>
                  <a:srgbClr val="006666"/>
                </a:solidFill>
                <a:latin typeface="Arial"/>
              </a:rPr>
              <a:t>ГОДУ (318,85 млн.руб.)</a:t>
            </a:r>
            <a:endParaRPr b="1" lang="en-US" sz="17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47" name="Object 6" descr=""/>
          <p:cNvPicPr/>
          <p:nvPr/>
        </p:nvPicPr>
        <p:blipFill>
          <a:blip r:embed="rId1"/>
          <a:stretch/>
        </p:blipFill>
        <p:spPr>
          <a:xfrm>
            <a:off x="517680" y="1152360"/>
            <a:ext cx="84596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02-06T00:08:13Z</dcterms:modified>
  <cp:revision>160</cp:revision>
  <dc:subject/>
  <dc:title>Структура собственных доходов на 2016 год бюджета Дальнереченского городского округа</dc:title>
</cp:coreProperties>
</file>