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6876-1740-4DA4-B064-7E309F5E1D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3FB5-C20D-4D4D-9872-65612F381941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8843-57DE-43DF-9BEC-FCBD0D946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CD8A-82C1-4723-AB18-2F3D4EFA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6C72-45D5-4ECC-AD1C-487F1EF5F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43AB-4693-4400-B87D-F375D528D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D182-1594-4FEF-88B0-74F775144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4381-7FC5-4379-BD28-43234C6D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A8CC-5028-47A4-8976-041D525A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9D69-AC1F-486E-B873-BEF41B91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785C-F0B1-48D7-A18E-69E3A033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1549-42B5-41EE-B78F-2AE57E17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99B6-099E-4702-83CB-418C27AA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357E-552A-444B-B9B4-C5DA4268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2468-7AD4-486F-AC40-57597484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C8FE-5577-4A8F-824E-79DB53F4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2F5C-8205-4884-AADA-5E8DCF99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654E-973F-4BD4-9EB3-8C7F926FF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66D4-EA49-4F98-BC9A-24B2AD0C2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833DB-2EDD-4FA9-B346-D5CCB0ECF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552E5-35E3-49AC-9B78-E411217B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1958F-2C3C-4077-A3BD-42007319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ADE56-732D-4E3F-8D30-B771CD18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BB8BC-7552-4CE6-A28C-53B47B04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A165-B9CC-47DB-BD6C-86149ECA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4302C-F73D-4821-B8CA-E64DD575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4F42C-F010-4970-9FC6-04D4D2DF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AEF8F-DF11-46F6-B515-EA994202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9ADE8-450F-477D-B0ED-AAEAD1AA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48D8B-78D8-4BA0-9E9E-D1D977C7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5B8F4-0AAB-4B7F-A6EB-01EA098FB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B67A7-E65A-45A1-AA20-B6816D6DC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530B9-1204-4F50-8847-868E1E55D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F40CA-97BA-4B62-9237-2A182545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A6022-BFD4-4102-A79A-4B8DD67B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1B9A-E8A8-4F52-9C16-0CE53C88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27C9C-8022-4704-A90C-FCE0FC93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35C8F-F7AC-4CD2-86B6-CBE3EBE6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257E2-FB69-4380-B6BC-C4ACCBD2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D3BE0-7E81-4424-8D45-3D7C3489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649ED-E28B-4DAC-949E-5528E45F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3CF84-FFC2-4704-B39E-6C00CAE2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10117-DB16-4040-BD88-25811120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D50BD-2174-4ABE-9AD6-AEB574D6E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F884B-9DE0-4972-8045-FEB0ABD23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CD3DA-FABC-4B23-B2F2-D9F837F0D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F9F8-752B-4BB6-B5BE-40D0CF4D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FC946-17C7-491F-BD52-B79149C2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13799-922B-4DBF-8C44-8CB20E92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796E2-4AF4-40EA-9FE7-01D0BB36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170F5-1438-4753-A03A-CA787EB2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73954-D535-4FE1-9125-752AC91C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13B1F-2DFF-4EE3-A21B-F6C4B395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7C988-D07E-45C2-8F35-41D8FA82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E9499-AD06-49D8-B17C-92D0D71E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BB731-4325-4481-8B07-D80D664E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DEB5B-4FE2-4DCC-9A62-8C5FEBFCB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B5FA-0CAA-40FE-A314-81743309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EDD4A-7B38-4D0B-AE2B-D1A56E4D3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82240-54DD-48DF-AE3E-235F5382A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4046E-B221-4486-A78F-493706AA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AE5E5-3276-40E0-B81A-66731902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1A812-E6DC-4894-80BB-F0C01F8E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9114A-AEA0-424E-98BF-BA73670B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D9C9C-8E5C-40C9-B07A-FB6372E1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E53B6-9D6E-496E-98AF-65A4E5CD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51DBB-09C7-4E4D-8681-AC1A1C91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E62DE-375E-4C9C-8A18-1FC925F7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2415-3AF3-42AF-9DB0-0B3F38AE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A4644-4FAC-4287-BD1F-F7D82559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87D8A-AC34-4DD8-8BBC-FA8043503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74262-3DAE-4F61-B4D8-E6E22FDE2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AA1D-7B6D-473A-8209-4E36C38E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3D4D-1B12-4E8B-966C-D7C492A7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AB1A-5C0E-4B17-A0D1-1B42693F559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F55C-A44A-4C4D-95BD-64ABB7C5307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37D1-E05A-446E-B3EC-FAC4E4A4C00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DBAC-B4D5-4573-92ED-83C547E8F3D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7C1B-FF16-4ED5-BBC6-FCA55BAD0CB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32B9-9B4C-46B6-B507-73BF76027D2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474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2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2,7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4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4,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8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4,6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9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5,6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8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5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8,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6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1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6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9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1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39,74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28720" y="469800"/>
            <a:ext cx="7844760" cy="769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1 год – 485,71 млн.руб. (местный бюджет – 174,73 млн.руб., краевой бюджет – </a:t>
            </a:r>
            <a:r>
              <a:rPr b="1" lang="ru-RU" sz="1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65,08</a:t>
            </a: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лн.руб., федеральный бюджет – 45,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85,1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1 год – 11,0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год – 2,9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28,8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ПЕРЕСЕЛЕНИЕ ГРАЖДАН ИЗ АВАРИЙНОГО ЖИЛИЩНОГО ФОНДА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год – 2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1 год – 18,11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4,9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82680" y="1892160"/>
            <a:ext cx="7290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5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588960" y="122400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(по состоянию на 01.10.2020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 к 2020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7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0,7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1,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9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0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36264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4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8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 обеспечение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реализацию программ формирования современной городской среды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приобретение спортзала, спортинвентаря, ремонт зданий и благоустройство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оснащение детских школ искусств муз.инструмента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ремонт автомоб.дорог за счет дорожного фонда ПК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получение общего образования в муниципальных школах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1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9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горячи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 на выплату педагогам школ за классное руководств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1 ГОД (824,74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1 ГОДУ (395,15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20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1-2023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1ГОДУ (361,7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6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9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5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6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9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8,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4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1 ГОД (839,7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12-15T07:34:40Z</dcterms:modified>
  <cp:revision>260</cp:revision>
  <dc:subject/>
  <dc:title>Структура собственных доходов на 2016 год бюджета Дальнереченского городского округа</dc:title>
</cp:coreProperties>
</file>